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399-2D03-4F74-96EF-0989D441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1F4-AC6D-46DC-ABF5-971D178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F8F-E263-4542-A088-2BF18757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DB9-1DCB-4413-B149-C37D0FC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97E-CB79-467E-B40C-971227C7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F1E-B4C1-4951-B1F5-620F95AB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E28-6EC9-4747-9A86-7B6A8F6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1A5-1009-47D2-A690-9803E765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E7E-1CCE-41DA-95AB-13FC91C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D53-E56A-4FFF-803C-39A5A4D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F15-49E2-4E40-9DCC-EE4CE19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147-4D40-464E-B2DB-40D1C5C4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18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.Rango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FE8-AFAE-462E-97C4-402BEFF41590}" type="slidenum">
              <a:rPr b="1" lang="en-US" sz="16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3360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I2002b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87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14400" y="380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9440" y="4222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RN PROTOTYPE F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FACT PRO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mechanical design &amp; constr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4AD-CDF7-4265-9DAF-583276A98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66680"/>
          <a:ext cx="914400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E7E-9C46-4406-9565-D6A45AED00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of the al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A 6082-T6 / (AlMgSi1) is an acceptable compromise between the 4 main characteristic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ding 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stance to corro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84A-9E04-4E60-A970-CF756E8112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totype is entirely welded in the CERN workshop by Electron Beam Weld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 adapted to thin wall thickness pie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deformations due to the narrow smelting bath (total angle: about 30</a:t>
            </a:r>
            <a:r>
              <a:rPr b="0" lang="en-US" sz="1200" spc="-1" strike="noStrike" baseline="7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homogeneity (vacuum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transition are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mum loss of initial mechanical characteristics (no more than 15% to 20%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 generally long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precision required for the junc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cost (between 20% and 50% more, according the design and dimens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0F4-9D3E-4FBB-8199-7D8A69D8A0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BW – CERN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BW%20installation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12520" y="3886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Vacuum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05360" y="1905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am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224-05B6-4D4E-BDD9-AA8808A8AA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 featur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ing in conventional mechanical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ckness of the walls calculated for a minimum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the cooling effici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cost radiation hardness ins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ligh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a double sk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rayers directly feed by an annular low pressure water fil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ling circuit shared out for the waist z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waist exchange surface magnified by a factor 2 (round shape inner screw thr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amic balls used as spacers between inner conductor and double skin to ensure the concentricity of the both compon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a glass disc insulator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3D9-D204-4A95-A57E-379AFDC60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%20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2520" y="1523880"/>
            <a:ext cx="160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6FB-A249-4DCB-905A-6CB0F8C145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%201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970440" cy="567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080" y="136044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75284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609480"/>
            <a:ext cx="457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7200"/>
            <a:ext cx="297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1000" y="327672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7360" y="5029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polarized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2800" y="57913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RN/EST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89C-5E30-4CD7-B0E2-BD7184CC3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91440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290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133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Glass insulator d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09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2160" y="20574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Out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5053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Inn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286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76720"/>
            <a:ext cx="75960" cy="304560"/>
          </a:xfrm>
          <a:prstGeom prst="upArrow">
            <a:avLst>
              <a:gd name="adj1" fmla="val 50000"/>
              <a:gd name="adj2" fmla="val 1002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640" y="5562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out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791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560" y="15238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Electrical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to the strip-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106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 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1430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7242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0532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4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990720"/>
          <a:ext cx="314316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90720"/>
                    <a:ext cx="3143160" cy="25527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71800" y="3809880"/>
          <a:ext cx="3333600" cy="23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809880"/>
                    <a:ext cx="3333600" cy="23828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1295280"/>
          <a:ext cx="3386160" cy="223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3386160" cy="22338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615-C8FD-4B23-8DE0-1E7F7B366C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295280"/>
          <a:ext cx="876312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ner conductor connection fl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DA0-53BD-4EE2-BE08-A3D4BBD50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rilling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38320" y="38095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i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io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al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C0B-4C94-49DE-BC9E-9A1AA18C0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parameters &amp; dimen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ool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 &amp; Wel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on phases (CERN worksh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um life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C43-F762-44CD-AECE-539E2C1E3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nnerCond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53337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ound shape thread inside the wa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4AF-424F-4B2A-8633-26A0D829A8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poussage1" descr=""/>
          <p:cNvPicPr/>
          <p:nvPr/>
        </p:nvPicPr>
        <p:blipFill>
          <a:blip r:embed="rId1"/>
          <a:stretch/>
        </p:blipFill>
        <p:spPr>
          <a:xfrm>
            <a:off x="0" y="10288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34320" y="31237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hing of the outer sk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Repoussage15" descr=""/>
          <p:cNvPicPr/>
          <p:nvPr/>
        </p:nvPicPr>
        <p:blipFill>
          <a:blip r:embed="rId2"/>
          <a:stretch/>
        </p:blipFill>
        <p:spPr>
          <a:xfrm>
            <a:off x="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9B2-F86E-41FF-81E0-D793B216F9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lassInsulator%20disc" descr=""/>
          <p:cNvPicPr/>
          <p:nvPr/>
        </p:nvPicPr>
        <p:blipFill>
          <a:blip r:embed="rId1"/>
          <a:stretch/>
        </p:blipFill>
        <p:spPr>
          <a:xfrm>
            <a:off x="0" y="1143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05520" y="4648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ulator di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C51-5D53-404C-88BB-DA93DA4AE7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4816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nt side assemb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FrontSide%20Assembly" descr=""/>
          <p:cNvPicPr/>
          <p:nvPr/>
        </p:nvPicPr>
        <p:blipFill>
          <a:blip r:embed="rId1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EA-86D7-43BA-8D74-F1BE0251B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38680" y="33526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ner condu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Inner%20Assembly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1FC-CF06-48E0-ABAE-5FD3193C0A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7120" y="32000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and outer sk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InnerSkin" descr=""/>
          <p:cNvPicPr/>
          <p:nvPr/>
        </p:nvPicPr>
        <p:blipFill>
          <a:blip r:embed="rId1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149" name="Outer%20pieces" descr=""/>
          <p:cNvPicPr/>
          <p:nvPr/>
        </p:nvPicPr>
        <p:blipFill>
          <a:blip r:embed="rId2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17A-8943-47F6-BC58-517654FDB6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71840" y="2895480"/>
            <a:ext cx="2971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herical blind holes for ceramic balls spac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Spacing%20Balls" descr=""/>
          <p:cNvPicPr/>
          <p:nvPr/>
        </p:nvPicPr>
        <p:blipFill>
          <a:blip r:embed="rId1"/>
          <a:stretch/>
        </p:blipFill>
        <p:spPr>
          <a:xfrm>
            <a:off x="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F2C-43C9-4FE9-B53F-16307BAA7F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fe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tigue is the major design iss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study is going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YS calculation of stresses and fatigue analysis (multi-axial stress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atic calculations give tensile stress of 14.8 Mpa (in the most critical section of the waist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ing  that the limit of fatigue for 10</a:t>
            </a:r>
            <a:r>
              <a:rPr b="0" lang="en-US" sz="1400" spc="-1" strike="noStrike" baseline="8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ctions is 100 Mpa, the survival of the prototype for 2 x 10</a:t>
            </a:r>
            <a:r>
              <a:rPr b="0" lang="en-US" sz="1400" spc="-1" strike="noStrike" baseline="66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ulses* (required value) does not seem unrealisti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Corresponding to 6 weeks of working operation at 50H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A00033%5B1%5D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72464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0D3-5B09-47C8-9E88-C889F4755F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 kA / 1 Hz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bration experimental te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placement capacitive sensor – W. Cooseman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N/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Magnetic measureme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5000A D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Jul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t load transfer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1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1123000">
            <a:off x="2210040" y="4571640"/>
            <a:ext cx="394020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OSTP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UDGET RESTRI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6E9-5035-4F5B-982E-BD239C2D7D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,  if phases of tests 2 and 3 are delayed or cancelled, step 1a, 1b and 1c allow by extrapolation to confirm important results about the reliability and the transfer of the heat lo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vertheless, a lot of questions are still without answers, in parti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ation of the target in the wa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exch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support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59A-CDE8-4F93-A968-C33722CF80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 prototype developed in the frame of the NUFACT Target-Collector ac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in B.  -  Gilardoni S.  -  Grawer G  -  Haseroth H.  -  Maire G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ugain J-M.  -  Rangod S.  -  Ravn H.  -  Sievers P.  -  Voelker 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erence: CERN-NUFACT Note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CC6-E492-48CC-9CA7-CBB3DCF342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 the reliability of 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00kA-50Hz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built according the conventional technique of pulsed horns and providing a minimum lifetime of one mon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2DC-F0A0-4B06-AE2A-D5462C2EA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orn, subject of the presentation, could be the inner component of a two stages coaxial horns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cond outer horn could complete the focusing effect of the first inner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is second outer horn is not considered in this phase of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433520"/>
          <a:ext cx="76960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33520"/>
                    <a:ext cx="76960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3A3-9F11-417D-A2E1-12454A7D1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 of the wa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cur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0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tition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lse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tage o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00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ms current i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.5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dissipation (by curren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9 k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n dep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631-C47A-4B90-ACED-1F0023B590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3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42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diameter (electrical connection flange)  89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waist aper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56 m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st 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8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age waist wall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6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skin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2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CBD-250A-4DA4-9ADB-905285A9C4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863640"/>
          <a:ext cx="91440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3640"/>
                    <a:ext cx="9144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429000"/>
            <a:ext cx="7621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D7C-0087-42CC-8873-567C4220EB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n power dissipation in the horn by current (kW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flow needed wi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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 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um allowable water flow in the horn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ing water pressure (bar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1-1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ed temperature increase on the neck (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wC1/PwC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1: Power extracted through the annular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2: Power extracted with showers from spray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523880"/>
          <a:ext cx="815328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0D9-0B08-46B8-8523-A64F97ABF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5:44:13Z</dcterms:created>
  <dc:creator>rangod</dc:creator>
  <dc:description/>
  <dc:language>en-US</dc:language>
  <cp:lastModifiedBy>wallon</cp:lastModifiedBy>
  <dcterms:modified xsi:type="dcterms:W3CDTF">2002-12-17T14:42:53Z</dcterms:modified>
  <cp:revision>90</cp:revision>
  <dc:subject/>
  <dc:title>PowerPoint Presentation</dc:title>
</cp:coreProperties>
</file>